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ED9-C707-4389-8C59-92952A13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680-6420-4CD1-9F71-851C281D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BA4-69FC-41CB-A6F9-BC14E1FC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5B7-290E-45BA-8DDA-E89A970A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0F5-8738-43AD-BC33-1CB420DE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F051-30A6-4E14-AD3A-5F53E23B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7BD-8BBC-4F9E-8076-EB6CB3CB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5CB-885A-4E80-B056-B98F0E6A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D8A-CFDB-4224-849B-6653F7BC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6C9-FDEC-4573-87D9-5AF336BC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424-CB31-4808-AFDA-C62C1358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0E9-FD6A-4222-B13F-95970790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ECDB-FDC8-4013-A93F-70B5210BA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508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ldlady1c" descr=""/>
          <p:cNvPicPr/>
          <p:nvPr/>
        </p:nvPicPr>
        <p:blipFill>
          <a:blip r:embed="rId1"/>
          <a:srcRect l="0" t="0" r="32697" b="12501"/>
          <a:stretch/>
        </p:blipFill>
        <p:spPr>
          <a:xfrm>
            <a:off x="1542960" y="457200"/>
            <a:ext cx="3943440" cy="7162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50640" y="7892640"/>
            <a:ext cx="43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Know An Old 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62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ldlady1c" descr=""/>
          <p:cNvPicPr/>
          <p:nvPr/>
        </p:nvPicPr>
        <p:blipFill>
          <a:blip r:embed="rId1"/>
          <a:srcRect l="0" t="0" r="32697" b="12501"/>
          <a:stretch/>
        </p:blipFill>
        <p:spPr>
          <a:xfrm>
            <a:off x="2666880" y="228600"/>
            <a:ext cx="1676520" cy="2514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65280" y="2817720"/>
            <a:ext cx="416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know an old l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o swallowed a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lcro he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4253040"/>
            <a:ext cx="2286000" cy="1919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5480" y="467676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don’t know why s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wallowed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ild’s na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2120" y="7116840"/>
            <a:ext cx="2209680" cy="187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82920" y="7862040"/>
            <a:ext cx="26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 me, Oh m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734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5791320" cy="4948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13280" y="5820120"/>
            <a:ext cx="423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N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23:58:39Z</dcterms:created>
  <dc:creator>ppp</dc:creator>
  <dc:description/>
  <dc:language>en-US</dc:language>
  <cp:lastModifiedBy>ppp</cp:lastModifiedBy>
  <dcterms:modified xsi:type="dcterms:W3CDTF">2004-11-06T00:03:25Z</dcterms:modified>
  <cp:revision>1</cp:revision>
  <dc:subject/>
  <dc:title>Slide 1</dc:title>
</cp:coreProperties>
</file>